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591-E04C-48C1-A781-B8F25572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459-D4D9-4B86-B9EC-CD775619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C0E-A541-40FE-B011-7D9479CE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F42-C7DF-482F-8D07-C6CD49EA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2293-36C5-4A54-97BF-37B9C8E1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42B0-7521-4D65-A1E3-9108F12C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E174-882F-4768-83A6-4A8EDED9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8213-D693-4AF1-9937-B005CB37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3E6C-8327-464F-B0C2-4354BE7D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5A66-9B12-431E-BBDC-8F7E4ECA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FC28-BB43-4773-947B-516AEA45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6A6-3C8C-456B-B092-17B914D6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B8A0-7CB9-4283-8B94-A7BC99A3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DC28-1DA2-45ED-B42D-E103BFE4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FD38-9758-401E-9964-1A9B4711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7BF1-0C38-4F26-AFC9-5697ADC2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3ECC-98DE-4654-8697-5F32E4CB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B34-6201-493F-9632-810F39E3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129-10A5-4922-9609-32E03705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855-E96A-4E12-B297-74EA4AF4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598D-7677-464C-82E7-A959D854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373-925B-438D-BEED-6471DC36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081-B12D-462E-AF25-6B7D9B3A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BD8-BB7B-4C3C-B1BA-53693739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3B5D-025C-48F8-BC9E-ECCE305D26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0626-9154-4F6A-B3C9-104183F3BC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b7"/>
                </a:solidFill>
                <a:latin typeface="Broadway"/>
              </a:rPr>
              <a:t>Geometry 1</a:t>
            </a:r>
            <a:br>
              <a:rPr sz="5100"/>
            </a:br>
            <a:r>
              <a:rPr b="1" lang="en-US" sz="3800" spc="-1" strike="noStrike">
                <a:solidFill>
                  <a:srgbClr val="ffffb7"/>
                </a:solidFill>
                <a:latin typeface="Broadway"/>
              </a:rPr>
              <a:t>Monday, November 29, 2010</a:t>
            </a:r>
            <a:endParaRPr b="1" lang="en-US" sz="3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30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termine if three given lengths can create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termine the minimum and maximum length of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mpute angle measures of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olve contextual situations involving angle/side length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ll Work:  What was the best part of the holiday?  What can you be thankful f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 4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sceles, Equilateral and Right tri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ment::  Lesson 4.6  1-4, AND 17-25(SOLVE ON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b7"/>
                </a:solidFill>
                <a:latin typeface="Broadway"/>
              </a:rPr>
              <a:t>Geometry 1</a:t>
            </a:r>
            <a:br>
              <a:rPr sz="5100"/>
            </a:br>
            <a:r>
              <a:rPr b="1" lang="en-US" sz="3800" spc="-1" strike="noStrike">
                <a:solidFill>
                  <a:srgbClr val="ffffb7"/>
                </a:solidFill>
                <a:latin typeface="Broadway"/>
              </a:rPr>
              <a:t>Tuesday, November 30, 2010</a:t>
            </a:r>
            <a:endParaRPr b="1" lang="en-US" sz="3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termine if three given lengths can create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termine the minimum and maximum length of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mpute angle measures of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olve contextual situations involving angle/side length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l Work:  Look on the board (HW numbers 24-25 from 4.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e 4.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ndiculars and Bise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  Lesson 5.1, problems 3-13, 16-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b7"/>
                </a:solidFill>
                <a:latin typeface="Broadway"/>
              </a:rPr>
              <a:t>Geometry 1</a:t>
            </a:r>
            <a:br>
              <a:rPr sz="5100"/>
            </a:br>
            <a:r>
              <a:rPr b="1" lang="en-US" sz="5100" spc="-1" strike="noStrike">
                <a:solidFill>
                  <a:srgbClr val="ffffb7"/>
                </a:solidFill>
                <a:latin typeface="Broadway"/>
              </a:rPr>
              <a:t> </a:t>
            </a:r>
            <a:r>
              <a:rPr b="1" lang="en-US" sz="3800" spc="-1" strike="noStrike">
                <a:solidFill>
                  <a:srgbClr val="ffffb7"/>
                </a:solidFill>
                <a:latin typeface="Broadway"/>
              </a:rPr>
              <a:t>Thursday, December 2, 2010</a:t>
            </a:r>
            <a:endParaRPr b="1" lang="en-US" sz="3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Determine if three given lengths can create a triang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Determine the minimum and maximum length of a triang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ompute angle measures of a triang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olve contextual situations involving angle/side length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l Work:  What is a bisector?  What is a perpendicular bisector?  Explain the differ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e 5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on 5.3, Problems 3-7, 17-18, pg 285 1-4, pg 271 41-5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12-02T21:03:46Z</dcterms:modified>
  <cp:revision>77</cp:revision>
  <dc:subject/>
  <dc:title>Slide 1</dc:title>
</cp:coreProperties>
</file>